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B08-B1BB-4B64-BDC3-C02EC6FE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96C-EAF1-4F0E-956B-4E7E00F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C31-7C52-4A75-B871-653424B5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15B-7FAB-44F5-BC00-C5298379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C8B6-7F4B-469D-95BD-71B15618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51F-4FAF-4D30-80E2-59FE7B5E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F4B-36C7-43AD-AF4A-5756548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077-8F2B-4436-9B32-88E7571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44C2-0EEE-4E04-A069-1CE28BF4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A34-5B3A-458B-942C-3D6A5516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9EF0-E089-49A0-8973-34FED4B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93B-C3EA-45B9-BA31-5B3D515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C95-0F9B-4326-9028-05C118B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059D-E5E4-4DF6-B346-54A52C3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8C78-C71D-43F6-A677-0925923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8718-8003-40A1-9606-10A308EF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54F0-6807-4E6C-92D6-65EF09B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7469-7CD3-4B07-95ED-2723F5D7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DECB-122D-44F3-BD81-3D4DE1F4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738F-B216-4A36-A700-8886AE1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C7DA-E795-4A7D-92E1-69D2306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C3CF-BBD5-474F-B858-CDE7653C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47A-C0FA-4DFE-82EE-D84B6723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E6D3-CBAD-4071-A407-01FD91D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9E9D-6D9A-4A3D-BD33-5ECB06C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A98F-8DE5-48BC-AF63-EE03168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9C94-D7CA-41C1-8073-7CDE22C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72D4-BB64-4827-9EA0-580597D6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52B4-5FAF-4371-8562-8D3DA0B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C90D-A9BD-4977-B386-FBCC8195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98C9-C3C8-4AF1-9AE0-EFCEF276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54C4-88EF-4F2C-A624-97301BB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6FE6-0AAA-4336-B236-CFB0401F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C85-8508-4FAA-85E8-E5613FD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E11D-6574-471E-926F-C7F6E8D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51DF-9F82-41EC-B15D-10769B4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C20E-C4CB-40B8-B93D-7B23777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C1A3-D58D-4E26-BDE6-EEAF9B3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3BAF-4C74-444F-A796-C94AAF83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1B90-E13A-4AEA-B2AD-0E90F0B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B846-39BE-4407-80C2-0BD279D7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9845-1F12-4FE3-9D8A-15529A9F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091B-28B1-4556-BB3E-FDE647D8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8AE-4ACF-45A7-82BF-257CC68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A3E-3306-4FB4-844C-9C320E07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A55-B066-4027-B107-CDD8D55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728-B5FB-46BA-A60D-B43FAD5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77D-4D84-47F5-B7CD-7EB1317C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9A4-F788-43AC-99AC-F8489D57B88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EB4A-16DB-42B7-B75F-B36C5C7DEF26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647-9637-492D-90FE-9DD8B4ADC348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B0A-8D38-459C-A664-B580F931E9E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omenius Regio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f6fc6"/>
                </a:solidFill>
                <a:latin typeface="Constantia"/>
              </a:rPr>
              <a:t>EUR-EMSE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600" spc="-1" strike="noStrike">
                <a:solidFill>
                  <a:srgbClr val="0f6fc6"/>
                </a:solidFill>
                <a:latin typeface="Constantia"/>
              </a:rPr>
              <a:t>Excellence in mathematics and the natural sciences, environmental education and technology: a European approach to enquiry-based lear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Both partner Local Authorities </a:t>
            </a:r>
            <a:br>
              <a:rPr sz="3600"/>
            </a:b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have identified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a need to improve the quality of education in mathematics and the natural sciences – 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to increase the take-up of these subjects in upper secondary and higher educ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The project aims to achieve stimulating teaching and learning in science, maths and environmental education, through developing a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joint framework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for supporting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56800" y="1928880"/>
            <a:ext cx="7372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student involvement in learning – taking into account their preferred modes of learn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development of key competences – in particular in numeracy, science and technology, ICT and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learning to lea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cross-curricular collaboration; shared learning activities between schools in the European partner countries – in particular through imaginative uses of ICT for shared investigation and communication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joint projects with relevant community groups outside formal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joint methodological development involving Local Authority advisers and consultants, Higher Education establishments, teachers and support staff, community actors – and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students as co-constructors of learning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main focus will be 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developing collaborative, competence-focused approaches to teaching and learning in the natural sci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raising the motivation of students in lower secondary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increasing the proportion of students opting to study the natural sciences in upper secondary and higher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providing alternative ways of learning relevant to disaffected learners and those at risk of school failu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Work Programme - Gloucestershi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A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Joint Project Management Group (JPMG)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will be established, including the Project Co-ordinator (Martina Pilling – City of Västerås), the GCC Project Manager (Mary Wormington - GCC), the Project Consultants (Penny Krucker and Martin Whittle), a representative of each partner organisation, and a teacher from each of the participating school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Meets at trans-national project meetin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Oct 3-7 2009 in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Västerå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eb 6-10 2010 in Gloucester(now to be negotiated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ext step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etting up of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Project Steering Groups (PSG)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in SE and UK of  partner representatives, with teachers of Ma,Sc,Envir,Tech – together with  students from partner schools. Meet once per term and report to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JPM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etting up of WIKI - 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Virtual Learning Environment (VLE)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within the project - Trevor Davies - University of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ystem set up. 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All partners to log onto system.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 Trevor Davies to attend January meeting to fully explain procedures/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Project partners (Västerås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760" y="121392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ästerås Stad – Conny Strö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proAros – Martina Pilling, Helena Lilja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           </a:t>
            </a: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Askövikens Naturskola – Christer Svensk, Bodil Lövgr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ABB – Lena Eliasson (Personnel Mana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älardalens Högskola – Margareta Engha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ästmanlands Kommuner och Landsting – Ove Sven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ediecenter Mälardalen AB – Mats Persson Hol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afabmiljö – Britt-Inger Ols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Lindboskolan – Christer Hansson (Headteacher), Kajsa Källberg, Christer Anders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t Ilianskolan – Peter Johansson and Eva Johansson (Headteachers), Martina Kulläng, Alexandra 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Rönnbyskolan – Anneli Alesson (Headteacher), Carina Björklund, Maria Larss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Project partners (Gloucestershire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76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Gloucestershire International Education Office - Mary Wormingt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    </a:t>
            </a: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(European Information Mana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cience Manager, GCC- Alex Flemi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aths Manager, GCC - Steve Lomax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University of Gloucestershire – Jane Moo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Gloucestershire First - Sue Ston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The Wilderness Centre – Sally Mo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Forest Education Business Partnership - Andy Robert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TEMworks – Ed Whit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Real Ideas Organisation - Richard Marti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Wyedean School - Elaine Turner - Head of Math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Cirencester Deer Park School - Gail Stevens, Head of Math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Bussage C of E Primary School – Greg Bast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Project Consultants - Penny Krucker, Martin Whitt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5:57:41Z</dcterms:created>
  <dc:creator> </dc:creator>
  <dc:description/>
  <dc:language>en-US</dc:language>
  <cp:lastModifiedBy> </cp:lastModifiedBy>
  <dcterms:modified xsi:type="dcterms:W3CDTF">2009-10-04T08:32:50Z</dcterms:modified>
  <cp:revision>13</cp:revision>
  <dc:subject/>
  <dc:title> Comenius Regio Project</dc:title>
</cp:coreProperties>
</file>